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05067"/>
        <c:axId val="97490470"/>
      </c:barChart>
      <c:catAx>
        <c:axId val="71505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90470"/>
        <c:crosses val="autoZero"/>
        <c:auto val="1"/>
        <c:lblAlgn val="ctr"/>
        <c:lblOffset val="100"/>
        <c:noMultiLvlLbl val="0"/>
      </c:catAx>
      <c:valAx>
        <c:axId val="97490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05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0E1-1759-461F-9CC0-29A87379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5D2-FD01-4980-8DC3-CA87AF62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A1A-762D-4677-A412-2A1F3741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2AB-490D-4238-B4A4-E20E0844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DE3-ED21-4995-85A6-D6DCF375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EE1-FF1E-4CF0-AB4D-1E313AE9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79B-78D0-471F-B689-6F6B21D4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B5A-3CB8-445B-B45D-FAE50AAF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892-749B-46AF-AC15-AB4F8DCF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D20-F57C-4ACB-8CF2-A3E5B33A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3D5-577A-4D45-8AED-1018EBF3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041-A990-472D-AB0C-90FD3AD0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7C13F-7CC4-474D-B9D9-FF51094CE0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