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293585"/>
        <c:axId val="72976944"/>
      </c:barChart>
      <c:catAx>
        <c:axId val="722935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76944"/>
        <c:crosses val="autoZero"/>
        <c:auto val="1"/>
        <c:lblAlgn val="ctr"/>
        <c:lblOffset val="100"/>
        <c:noMultiLvlLbl val="0"/>
      </c:catAx>
      <c:valAx>
        <c:axId val="729769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935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91FB-1AF9-4375-BAC7-04065F13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48E8-6857-469B-AD9B-DCCFB98A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E11E-32C4-4F00-8A69-C3370BBE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63C5-B8C9-4F6D-883D-D62A26FE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F4B1-C5A7-4DD0-92C4-9A422148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B0D7-1185-46D3-B817-CB7F8DA8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B58E-76D0-494E-9365-DA37DF0C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8119-EF28-44BE-9A7B-CBB9EC42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F35E-60A0-49FF-AFE2-584E92EC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17DF-ED9B-414C-8E6A-AAC44F04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2E39-3E9F-420B-8802-A7681496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3F14-D5AC-4C49-A506-0911DCD4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C65F3-AFB0-4624-B322-CB0F083208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