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31319"/>
        <c:axId val="36582905"/>
      </c:barChart>
      <c:catAx>
        <c:axId val="17031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82905"/>
        <c:crosses val="autoZero"/>
        <c:auto val="1"/>
        <c:lblAlgn val="ctr"/>
        <c:lblOffset val="100"/>
        <c:noMultiLvlLbl val="0"/>
      </c:catAx>
      <c:valAx>
        <c:axId val="365829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31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6BDD-A5CF-4EA5-8DDD-ECB561A83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0FC-C54A-47C4-A564-5D54E08B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680B-ADF5-4A3A-983E-6B219A9C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CEE-C647-4329-B493-A10D7D26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C5FD-D9B9-4C75-884C-B5374EA1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8FD-4371-4CF9-A2C0-481AB4DA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5D3-5D2C-4163-83F6-996EA598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F3E3-745C-4590-808C-B91A1877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E7F0-FC70-45EA-9506-0D60DFB9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594-7843-4D8D-92FE-70287597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32B-BA9A-4C46-B2D7-B622889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033F-3CD4-4F0E-A6A2-7D3131D6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F71AB-41A7-47E6-BEEA-CF5B98C16B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