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00667"/>
        <c:axId val="74312052"/>
      </c:barChart>
      <c:catAx>
        <c:axId val="72700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12052"/>
        <c:crosses val="autoZero"/>
        <c:auto val="1"/>
        <c:lblAlgn val="ctr"/>
        <c:lblOffset val="100"/>
        <c:noMultiLvlLbl val="0"/>
      </c:catAx>
      <c:valAx>
        <c:axId val="74312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00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0A4-EC0A-4521-A681-762F2BBF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5A2-4D15-4CEF-8720-1B607219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83E-C5D3-4ED8-9AB2-BF8F3860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3F9-383B-46FB-83CB-CEF842B2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24F-DD58-4FB7-840B-0E73513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857-3E84-4513-B9C5-2251BC4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320-B684-4E9C-9BFF-7F16FE95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8CA-C6C2-40ED-A821-FF27E45A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E5A-5A50-45F1-ADCA-CE714477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206-256F-4F2E-AEA3-D0F75B1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666-76B9-4190-81A2-C3AF1C9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414-7947-40B4-9AB1-FFAD4BCD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1FCC-ACCD-4D9E-8032-B6A8C2999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