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62969"/>
        <c:axId val="90924688"/>
      </c:barChart>
      <c:catAx>
        <c:axId val="83762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24688"/>
        <c:crosses val="autoZero"/>
        <c:auto val="1"/>
        <c:lblAlgn val="ctr"/>
        <c:lblOffset val="100"/>
        <c:noMultiLvlLbl val="0"/>
      </c:catAx>
      <c:valAx>
        <c:axId val="909246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62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4A0-F864-475B-8E5F-6D7ACDD5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420-52CC-4A8D-A2D8-E76B3780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2D0-E23C-4C30-A73F-4F690440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F6D-2C90-49C3-B783-DF6F6451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36E-642A-4111-8B97-2913F4C2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364-1C6F-4707-A8B9-1EFA9A17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E94-A3F8-4962-83E2-4BD3B8E9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D1D-D006-47E7-9839-33045218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081-93B1-4B54-A78F-7BF6B75D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CEA-6E8F-4C15-8D47-A3FDBC19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4C4-188F-45DD-A9B4-42BDDEA2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859-EB1A-416A-A17E-ABC38FC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CFB69-4415-473A-8DC6-4B784554E3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