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8203"/>
        <c:axId val="74351518"/>
      </c:barChart>
      <c:catAx>
        <c:axId val="85298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51518"/>
        <c:crosses val="autoZero"/>
        <c:auto val="1"/>
        <c:lblAlgn val="ctr"/>
        <c:lblOffset val="100"/>
        <c:noMultiLvlLbl val="0"/>
      </c:catAx>
      <c:valAx>
        <c:axId val="74351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8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73F-200D-4884-A68F-D77B269E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2B5-3F5A-4FB5-987F-56D9C5E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6C4-BED8-41A0-BF3F-7A5046A2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658-5DAB-483B-9B9F-5E24932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425-A8F0-4688-B310-4255B78F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617-914F-4FAE-BCE1-66C87096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15B-C0BB-4648-B619-46886B48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258-2225-4881-BFD0-B1DE0DB5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3CF-24E3-43F6-AB84-3FA585C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281-24BB-4E7B-A519-7F6BE1F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83D-533F-44E5-9575-2E644FF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5F5-140A-4FFD-9530-335D0629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A520B-57A5-42BA-A9B3-B165393387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