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08135"/>
        <c:axId val="81549176"/>
      </c:barChart>
      <c:catAx>
        <c:axId val="90808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49176"/>
        <c:crosses val="autoZero"/>
        <c:auto val="1"/>
        <c:lblAlgn val="ctr"/>
        <c:lblOffset val="100"/>
        <c:noMultiLvlLbl val="0"/>
      </c:catAx>
      <c:valAx>
        <c:axId val="81549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08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AD3-DD80-469E-93DC-C0A163FE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AD0-36C2-49DC-B10A-AC5D9A9F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9FB-BDBC-49F5-A23F-4ED8E2BC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4D6-A4D4-4CFC-A337-2464D324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5C8-AD84-4D4A-80BE-BDB8B0DF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14E-3BAE-434C-8B4E-2F5AD800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E9A-1861-48AA-8865-552FB2B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0A7-BE2F-43A1-932B-9F730D50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3CA-6220-4FDD-BBDF-28D109B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8BE-4956-4F6E-B425-50E3B4C7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366-2692-480A-8882-97B29EEF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C95-73C3-473F-95A9-D57C55AE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B6AAA-DD87-4C45-9C18-6D72749485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